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1BD-0CBF-4197-B992-8D8D6017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E9C-D9A2-4062-A4D8-1EFD8B3F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7E0D-6D36-4D45-82AC-825418BF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714-A8CF-44EA-8DFF-5B1C5500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20D8-B8C1-49AF-B6B0-B2F0CCFB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9B96-27C3-4AE5-8A37-7A6F2FE2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2499-AC2A-477A-8F6A-8DF22989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0518-880F-4CD6-9D34-6BC29AFD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F6E3-D539-4996-B20D-14373E73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BFB6-BBD5-4C11-968E-1829827B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3D61-667B-4FFA-A6CA-D919ADBB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9BE-4DA0-4BD5-A868-BB3EDE2E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2FD2-B0BE-4588-A26A-1BCF17A9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6086-7D98-48B9-A491-8E4FB09E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BCEF-3BD4-42A3-ADDF-36189375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BDBD-E2D9-4E28-9266-BDA8349F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F911-A1E6-4623-BF3D-D7283818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0FD-006C-4CA9-925E-D3A5D4D2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ADA-5262-49C3-8825-85FA2F1A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685E-B31E-47FD-9F9F-6E8159BD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8BC-6DDA-4E09-A717-98366B5E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E1C-693C-4F1D-8C5C-F901D923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253-7961-441E-9831-9E1EB9F3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4658-4467-4DB3-8E37-26739F67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CB3D-3B48-4B2F-AF8F-BED5767002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AA8A-143D-45B0-94D2-F6D515334B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Архитектура </a:t>
            </a:r>
            <a:br>
              <a:rPr sz="4800"/>
            </a:b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клиент-сервер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чему клиент-серве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спользование решения клиент/сервер может заинтересовать вас в следующем случае: представьте, что вы ответственны за создание приложения, которое обращается к данным, постоянно находящимся в локальной сети или на файловом сервер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нутри вашего подразделения к этому приложению могут обратиться одновременно несколько пользователей, а со временем появляются и другие приложения для работы с этими данны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редположим, что эти данные представляют интерес и для других подразделений внутри вашей организ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пример в  некоторых подразделениях нашей компании  должны быть созданы дополнительные приложения. При этом, скорее всего, необходимо переместить данные на сервер для того, чтобы сделать их доступнее для всех пользовател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скольку это происходит на уровне организации, важно, чтобы используемое решение позволяло осуществить доступ к данным не только быстро, но и в необходимом для приложения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ледует отметить, что глобальная доступность данных приводит к появлению некоторых проблем. Самые важные из них  -  чрезмерная сетевая нагрузка и зaщита данны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 приведенном примере показано что технологи клиент –сервер  обладает целым рядом преимущест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Допускает ведомственный доступ к данным, что позволяет подразделениям обрабатывать только ту часть данных, за которую они ответственны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беспечивает доступ к данным способом, предложенным производителем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станавливает правила целостности данных для всей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беспечивает "разделение труда" между клиентом и сервером (каждый выполняет задачи, для решения которых более приспособлен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Может использовать улучшенные возможности целостности данных, обеспечиваемые большинством серверов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меньшает сетевую нагрузку, поскольку клиенту возвращаются подмножества данных, а не все таблицы, в случае локальных баз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ледует отметить, что использование технологии клиент-сервер не всегда оправдан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азработчик должен провести полный анализ требований к системе для определения того, является ли технология клиент-сервер именно тем средством, которое необходимо для решения поставленных зада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роме того, следует учесть, что системы клиент/сервер весьма дорогостоящие. В эту стоимость входит программное обеспечение, операционная система, сервер базы данных и аппаратные средства, соответствующие программному обеспечению этого уровня. Не стоит забывать и о затратах пользователей работе с операционной системой и программным обеспечением базы данны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лиен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ная функция компьютера-клиента ( или программы-клиента) состоит в выполнении приложения (интерфейса с пользователем и логики представления) и осуществлении связи с сервером, когда этого требует прилож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Серве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ак следует уже из самого термина, главная функция компьютера-сервера заключается в обслуживании потребностей клиента. Термин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"Сервер"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используется для обозначения двух различных групп функций: файл-сервер и сервер баз данных (далее эти термины означают в зависимости от контекста либо программное обеспечение, реализующее указанные группы функций, либо компьютеры с этим программным обеспечением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Файл-серверы не предназначены для выполнения операций с базами данных, их основная функция -разделение файлов между несколькими пользователями, т.е. обеспечение одновременного доступа многих пользователей к файлам на компьютере - файл-сервер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о чаще компьютер с сервером баз данных выделяется только для выполнения операций с базами данных. Связь с клиентом, анализ и выполнение запроса к базе данных, включая возврат клиенту результата запроса (набора строк из базы данных), управление одновременным доступом к базе данных многих пользователей, перенаправление запросов к другим серверам сети, выполнение реляционных операций, управление словарем-справочником данных и обеспечение защиты - таковы некоторые основные функции сервера баз данных. Одно из важных требований к серверу - это то, что операционная система, в среде которой размещен сервер баз данных, должна быть многозадачной (и, желательно, но не обязательно, многопользовательской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66"/>
                </a:solidFill>
                <a:latin typeface="Arial"/>
              </a:rPr>
              <a:t>Back Office Systems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 недавних пор разрабатываемые прикладные системы (или приложения) были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нацелены</a:t>
            </a: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 решение основных потребностей бизнес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платежных документов и расчет заработной платы (Payroll)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счетов дебиторов (A/R) и кредиторов.(A/P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учетных документов (Inventory Contro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заказов (Order Processing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акие системы называются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базовыми ("Back Office Systems")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Основной функцией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тих систем является хранение и ведение соответствующих запис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добные системы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используютс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о всех сферах деятельности, они могут быть приобретены на стороне и адаптированы к специфике конкретной организ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66"/>
                </a:solidFill>
                <a:latin typeface="Arial"/>
              </a:rPr>
              <a:t>Front Office Application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настоящее время возникла острая необходимость в прикладных системах, которые непосредственно способствуют успеху организации на рынке, ее доходности, росту продаж, анализу информацию и поддержке принятия решений, усовершенствованию продукции, автоматизации процессов производства и распределения и т.д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ти системы можно назвать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системами взаимодействия с внешним миром ("Front Office Application")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ни должны быстро разрабатываться, функционировать в разнородных сетевых средах, сочетать использование таких видов информации как аудио, видео, графику и текст, иметь доступ к изолированным источниками информации ("информационным островам"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Распределенные вычисления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"распределенные вычисления"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(Distributing computing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часто используется для обозначения двух различных, хотя и взаимодополняющих концепций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пределенная база данных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пределенная обработка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менение этих концепций дает возможность организовать доступ к информации, хранящейся на нескольких машинах, для конечных пользователей, использующих различные средств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Распределенная база данных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Распределенная база данны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это набор баз данных, связанных между собой логически, но физически расположенных на нескольких машинах, входящих в одну компьютерную с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8000"/>
                </a:solidFill>
                <a:latin typeface="Arial"/>
              </a:rPr>
              <a:t>Важнейшие характеристик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распределенной базы данных таков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зрачность расположения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втономность узлов распределенной базы данных 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(Site Autonomy)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бработка распределенных запросов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полнение распределенных транзакц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Характеристики распределенной базы данны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Прозрачность расположен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позволяет пользователям работать с базами данных, не зная ничего об их расположен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Автономность узлов распределенной базы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анных означает, что ведение каждой базы может происходить независимо от други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Распределенный запрос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это такой запрос (SQL-предложение), в ходе выполнения которого происходит доступ к объектам (таблицам или представлениям) разных баз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выполнении распределенных транзакций осуществляется </a:t>
            </a: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согласованное управление (concurrency control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семи вовлеченными базам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Распределенная обработка данных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аспределенная обработка данны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значает разные понятия для разных люд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cc00"/>
                </a:solidFill>
                <a:latin typeface="Arial"/>
              </a:rPr>
              <a:t>Например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Oracle это отделение прикладных программ от выполнения операций с базам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перации с базами данных носят общий характер и могут соответствовать требованиям различных приложений по обработке информ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полнение операций с базами данных на одной машине и приложений на другой - это и есть распределенная обработка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вязь между приложением и процессами выполнения операций с базами данных реализуется как аппаратурой, так и путем программного обеспеч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Клиент-сервер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Технология клиент-сервер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является реализацией распределенной обработк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Типичная архитектура клиент/сервер состоит из 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программы</a:t>
            </a:r>
            <a:r>
              <a:rPr b="1" lang="en-US" sz="19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клиента</a:t>
            </a:r>
            <a:r>
              <a:rPr b="1" lang="en-US" sz="19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онечного пользователя, которая имеет доступ  на удаленном компьютере-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сервере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Это разделение процессов обработки данных основано на группировании функц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Не существует никакого стандартного определения, что такое клиент и чем занимается сервер. Однако можно полагать, что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ервер обеспечивает сервис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лиент запрашивает сервис у сервер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 одному и тому же серверу может обращаться множество клиентов с требованием предоставить им какой-либо сервис, и именно сервер решает, как обработать такие запрос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 среде клиент-сервер последний играет намного большую роль, чем просто распределитель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Фактически сервер выполняет основную часть работы системы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ервер  в некоторой мере руководит клиентом, каким образом тот должен получать доступ и управлять данным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еально клиентские приложения предназначены только для предоставления данных пользователю или для их доставки от конечного пользовател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7-06T02:26:5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